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163E1-3865-4334-AC1E-05AC79479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38D74-89FC-4EEA-B4D3-0D7545BE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9750-3191-49A0-9919-071A87DA7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11044-CCBA-4F4C-99A4-AFF74C06E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B20A-168A-4096-9767-960C183AD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5216-B0EE-4C54-999A-F29A7D98D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94C63-C388-4B42-BFB7-724AC187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77D14-A635-40C3-B8FB-6C9A766ED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1E2C-9420-4F66-A839-7235F6A3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D070-5573-4632-80A3-76C9838D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DC0B-5F2E-47C2-9284-873964D63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6ECC-B92B-428F-A2DD-294A87AAC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D92D-BCDF-4910-9AE0-60DB16379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anciscoblaha.com/store/skipjackMaldives.jpg" TargetMode="External"/><Relationship Id="rId2" Type="http://schemas.openxmlformats.org/officeDocument/2006/relationships/image" Target="../media/image4.jpeg"/><Relationship Id="rId3" Type="http://schemas.openxmlformats.org/officeDocument/2006/relationships/hyperlink" Target="http://images.google.com/imgres?imgurl=http://www.finecars.cc/typo3temp/GB/244e3e9f04.jpg&amp;imgrefurl=http://www.finecars.cc/en/detail/car/22362/index.html%3Fno_cache%3D1&amp;h=375&amp;w=500&amp;sz=66&amp;hl=en&amp;start=14&amp;um=1&amp;usg=__Rj54b-KIeKzV_tA7Mfib8nyBHd8=&amp;tbnid=DfvsUkYALyWJjM:&amp;tbnh=98&amp;tbnw=130&amp;prev=/images%3Fq%3Dcar%2Btrade%26um%3D1%26hl%3Den%26safe%3Doff%26rls%3DGWYA,GWYA:2008-40,GWYA:en%26sa%3DN" TargetMode="External"/><Relationship Id="rId4" Type="http://schemas.openxmlformats.org/officeDocument/2006/relationships/image" Target="../media/image5.jpeg"/><Relationship Id="rId5" Type="http://schemas.openxmlformats.org/officeDocument/2006/relationships/hyperlink" Target="http://images.google.com/imgres?imgurl=http://www.lifehack.org/wp-content/files/2008/02/coffee.jpg&amp;imgrefurl=http://www.lifehack.org/articles/lifestyle/how-to-defend-your-coffee-habit.html&amp;h=342&amp;w=380&amp;sz=9&amp;hl=en&amp;start=18&amp;um=1&amp;usg=__8o9Qdm4v-MplnISiuPaa9T2fgRw=&amp;tbnid=SayNjuS8Xd58QM:&amp;tbnh=111&amp;tbnw=123&amp;prev=/images%3Fq%3Dcoffee%26um%3D1%26hl%3Den%26safe%3Doff%26rls%3DGWYA,GWYA:2008-40,GWYA:en%26sa%3DX" TargetMode="Externa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google.com/imgres?imgurl=http://www.banknotes.com/kenya-10.jpg&amp;imgrefurl=http://www.banknotes.com/ke.htm&amp;h=297&amp;w=502&amp;sz=67&amp;hl=en&amp;start=13&amp;usg=__ndyCPcqqxa5SrPD5AGSVBvDuiJU=&amp;tbnid=DvdE4hG1gYXbJM:&amp;tbnh=77&amp;tbnw=130&amp;prev=/images%3Fq%3Dkenya%26gbv%3D2%26hl%3Den%26sa%3DG"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en.wikipedia.org/wiki/Image:Kenyan_20_Shilling_Note.jpg" TargetMode="External"/><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news.bbc.co.uk/media/images/38523000/gif/_38523209_kenya_mombasa_map150.gif&amp;imgrefurl=http://news.bbc.co.uk/2/hi/africa/2522681.stm&amp;h=180&amp;w=150&amp;sz=4&amp;hl=en&amp;start=6&amp;um=1&amp;usg=__DPLIF4GL70Cf-lTGkZZ70He7D9c=&amp;tbnid=mxyIliGu-nPJVM:&amp;tbnh=101&amp;tbnw=84&amp;prev=/images%3Fq%3Dmombasa%2Bmap%26um%3D1%26hl%3Den%26safe%3Doff"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157/375875589_2a84bd1d09_b.jpg" TargetMode="External"/><Relationship Id="rId2" Type="http://schemas.openxmlformats.org/officeDocument/2006/relationships/image" Target="../media/image12.jpeg"/><Relationship Id="rId3" Type="http://schemas.openxmlformats.org/officeDocument/2006/relationships/hyperlink" Target="http://www.google.com/imgres?imgurl=http://www.gravesham.gov.uk/media/images/n/5/WW22005MarchingLarge.jpg&amp;imgrefurl=http://www.gravesham.gov.uk/index.cfm%3Farticleid%3D1853&amp;h=252&amp;w=500&amp;sz=54&amp;tbnid=pYwvlmyOJz4J::&amp;tbnh=66&amp;tbnw=130&amp;prev=/images%3Fq%3Dmarching%2Bsoldiers&amp;usg=__X-8-wvIPMeQvhk1rZiEn6vK8Ml0=&amp;sa=X&amp;oi=image_result&amp;resnum=1&amp;ct=image&amp;cd=1"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hyperlink" Target="http://www.google.com/imgres?imgurl=http://api.ning.com/files/sYhwUrVFe*ISYNcaGAdV2DrcDjr*Iaa0bJqkbpgc6AD2FB1-witMrby8E9Cv3Qd3QSYvPwAVFvwCOa4hHe25QS0zMc2X0Sun/british_flag.jpg&amp;imgrefurl=http://ipower.ning.com/group/britishpride&amp;h=482&amp;w=800&amp;sz=125&amp;tbnid=GwXI8suNvkwJ::&amp;tbnh=86&amp;tbnw=143&amp;prev=/images%3Fq%3Dbritish%2Bflag&amp;usg=__7OawD7VMi72yhWNeEPeRZj4H8mI=&amp;sa=X&amp;oi=image_result&amp;resnum=3&amp;ct=image&amp;cd=1"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upload.wikimedia.org/wikipedia/commons/archive/d/d7/20070827095027!Kenya_coat_of_arms.jpg&amp;imgrefurl=http://commons.wikimedia.org/wiki/Image:Kenya_coat_of_arms.jpg&amp;h=315&amp;w=348&amp;sz=57&amp;tbnid=TcEI1c_Qg5oJ::&amp;tbnh=109&amp;tbnw=120&amp;prev=/images%3Fq%3Dkenya%2Bcoat%2Bof%2Barms&amp;usg=__l4-WHMEqK1qYTm5cnnF-3eN-YSQ=&amp;sa=X&amp;oi=image_result&amp;resnum=1&amp;ct=image&amp;cd=1" TargetMode="External"/><Relationship Id="rId2" Type="http://schemas.openxmlformats.org/officeDocument/2006/relationships/image" Target="../media/image16.jpeg"/><Relationship Id="rId3" Type="http://schemas.openxmlformats.org/officeDocument/2006/relationships/hyperlink" Target="http://www.google.com/imgres?imgurl=https://www.cia.gov/library/publications/the-world-factbook/flags/ke-lgflag.gif&amp;imgrefurl=https://www.cia.gov/library/publications/the-world-factbook/flags/ke-flag.html&amp;h=302&amp;w=455&amp;sz=7&amp;tbnid=wZPFQRsIMhIJ::&amp;tbnh=85&amp;tbnw=128&amp;prev=/images%3Fq%3Dkenya%2Bflag&amp;hl=en&amp;usg=__rkhHrzD157JGheXKM94dbeJd5-A=&amp;sa=X&amp;oi=image_result&amp;resnum=2&amp;ct=image&amp;cd=1" TargetMode="External"/><Relationship Id="rId4" Type="http://schemas.openxmlformats.org/officeDocument/2006/relationships/image" Target="../media/image17.jpe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google.com/" TargetMode="External"/><Relationship Id="rId3" Type="http://schemas.openxmlformats.org/officeDocument/2006/relationships/hyperlink" Target="http://www.ask.com/" TargetMode="External"/><Relationship Id="rId4" Type="http://schemas.openxmlformats.org/officeDocument/2006/relationships/hyperlink" Target="http://www.yahoo.com/" TargetMode="External"/><Relationship Id="rId5" Type="http://schemas.openxmlformats.org/officeDocument/2006/relationships/hyperlink" Target="http://www.google.com/search?q=veteran%27s+day+2008&amp;hl=en&amp;ct=veteransday08&amp;oi=ddle" TargetMode="External"/><Relationship Id="rId6" Type="http://schemas.openxmlformats.org/officeDocument/2006/relationships/image" Target="../media/image18.png"/><Relationship Id="rId7" Type="http://schemas.openxmlformats.org/officeDocument/2006/relationships/hyperlink" Target="http://images.google.com/imgres?imgurl=http://www.refreshingart.com/images/ask-com_640_wht.gif&amp;imgrefurl=http://www.refreshingart.com/Guestbook.php&amp;h=689&amp;w=933&amp;sz=76&amp;hl=en&amp;start=2&amp;usg=__bvwuLnUH2DoJQrai8i9hHPbTgqA=&amp;tbnid=hcFZReGIeTZFOM:&amp;tbnh=109&amp;tbnw=147&amp;prev=/images%3Fq%3Dask.com%26gbv%3D2%26hl%3Den%26safe%3Doff" TargetMode="External"/><Relationship Id="rId8" Type="http://schemas.openxmlformats.org/officeDocument/2006/relationships/image" Target="../media/image19.jpeg"/><Relationship Id="rId9" Type="http://schemas.openxmlformats.org/officeDocument/2006/relationships/hyperlink" Target="http://images.google.com/imgres?imgurl=http://www.fareastgizmos.com/entry_images/1206/26/Wikipedia.jpg&amp;imgrefurl=http://www.fareastgizmos.com/2006/12/&amp;h=431&amp;w=450&amp;sz=34&amp;hl=en&amp;start=1&amp;usg=__pvsXp0duCboO88SikWKTrxzum74=&amp;tbnid=DN-PKi6ArGYAEM:&amp;tbnh=122&amp;tbnw=127&amp;prev=/images%3Fq%3Dwikipedia%26gbv%3D2%26hl%3Den%26safe%3Doff" TargetMode="External"/><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KENY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en-US" sz="3200" spc="-1" strike="noStrike">
                <a:solidFill>
                  <a:srgbClr val="0000ff"/>
                </a:solidFill>
                <a:latin typeface="Old English Text MT"/>
              </a:rPr>
              <a:t>Taylor L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Relative Location of Kenya to Afric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a:rPr>
              <a:t>Kenya is in the south eastern part of Africa. Its capital is Nairobi. Countries that border it include, Somalia, Uganda, Tanzania, Sudan, and Ethiopia.</a:t>
            </a:r>
            <a:endParaRPr b="0" lang="en-US" sz="2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pic>
        <p:nvPicPr>
          <p:cNvPr id="46" name="" desc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Kenya’s Imports and Expor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Castellar"/>
              </a:rPr>
              <a:t>Exports:</a:t>
            </a:r>
            <a:r>
              <a:rPr b="0" lang="en-US" sz="2800" spc="-1" strike="noStrike">
                <a:solidFill>
                  <a:srgbClr val="000000"/>
                </a:solidFill>
                <a:latin typeface="Castellar"/>
              </a:rPr>
              <a:t> $3.76 billion f.o.b. (2007 est.): tea, horticultural products, coffee, petroleum products, fish, ce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stellar"/>
              </a:rPr>
              <a:t>	</a:t>
            </a:r>
            <a:r>
              <a:rPr b="0" lang="en-US" sz="2800" spc="-1" strike="noStrike">
                <a:solidFill>
                  <a:srgbClr val="000000"/>
                </a:solidFill>
                <a:latin typeface="Castellar"/>
              </a:rPr>
              <a:t>	</a:t>
            </a:r>
            <a:r>
              <a:rPr b="1" lang="en-US" sz="2800" spc="-1" strike="noStrike">
                <a:solidFill>
                  <a:srgbClr val="000000"/>
                </a:solidFill>
                <a:latin typeface="Castellar"/>
              </a:rPr>
              <a:t> </a:t>
            </a:r>
            <a:r>
              <a:rPr b="1" lang="en-US" sz="2800" spc="-1" strike="noStrike">
                <a:solidFill>
                  <a:srgbClr val="000000"/>
                </a:solidFill>
                <a:latin typeface="Castellar"/>
              </a:rPr>
              <a:t>Imports:</a:t>
            </a:r>
            <a:r>
              <a:rPr b="0" lang="en-US" sz="2800" spc="-1" strike="noStrike">
                <a:solidFill>
                  <a:srgbClr val="000000"/>
                </a:solidFill>
                <a:latin typeface="Castellar"/>
              </a:rPr>
              <a:t> $7.602 billion f.o.b. (2007 est.): machinery and transportation equipment, petroleum products, motor vehicles, iron and steel, resins and plastic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324480" y="4267080"/>
            <a:ext cx="1928880" cy="2590920"/>
          </a:xfrm>
          <a:prstGeom prst="rect">
            <a:avLst/>
          </a:prstGeom>
          <a:ln w="0">
            <a:noFill/>
          </a:ln>
        </p:spPr>
      </p:pic>
      <p:pic>
        <p:nvPicPr>
          <p:cNvPr id="50" name="" descr="">
            <a:hlinkClick r:id="rId3"/>
          </p:cNvPr>
          <p:cNvPicPr/>
          <p:nvPr/>
        </p:nvPicPr>
        <p:blipFill>
          <a:blip r:embed="rId4"/>
          <a:stretch/>
        </p:blipFill>
        <p:spPr>
          <a:xfrm>
            <a:off x="228600" y="4800600"/>
            <a:ext cx="2438280" cy="1838160"/>
          </a:xfrm>
          <a:prstGeom prst="rect">
            <a:avLst/>
          </a:prstGeom>
          <a:ln w="0">
            <a:noFill/>
          </a:ln>
        </p:spPr>
      </p:pic>
      <p:pic>
        <p:nvPicPr>
          <p:cNvPr id="51" name="" descr="">
            <a:hlinkClick r:id="rId5"/>
          </p:cNvPr>
          <p:cNvPicPr/>
          <p:nvPr/>
        </p:nvPicPr>
        <p:blipFill>
          <a:blip r:embed="rId6"/>
          <a:stretch/>
        </p:blipFill>
        <p:spPr>
          <a:xfrm>
            <a:off x="3657600" y="4800600"/>
            <a:ext cx="1828800" cy="165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cy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ya uses shilling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enyan shilling = 0.01308 U.S. dolla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Kenyan shillings </a:t>
            </a:r>
            <a:endParaRPr b="0" lang="en-US" sz="2800" spc="-1" strike="noStrike">
              <a:solidFill>
                <a:srgbClr val="000000"/>
              </a:solidFill>
              <a:latin typeface="Arial"/>
            </a:endParaRPr>
          </a:p>
        </p:txBody>
      </p:sp>
      <p:pic>
        <p:nvPicPr>
          <p:cNvPr id="54" name="" descr="">
            <a:hlinkClick r:id="rId2"/>
          </p:cNvPr>
          <p:cNvPicPr/>
          <p:nvPr/>
        </p:nvPicPr>
        <p:blipFill>
          <a:blip r:embed="rId3"/>
          <a:stretch/>
        </p:blipFill>
        <p:spPr>
          <a:xfrm>
            <a:off x="685800" y="3200400"/>
            <a:ext cx="3505320" cy="2057400"/>
          </a:xfrm>
          <a:prstGeom prst="rect">
            <a:avLst/>
          </a:prstGeom>
          <a:ln w="0">
            <a:noFill/>
          </a:ln>
        </p:spPr>
      </p:pic>
      <p:graphicFrame>
        <p:nvGraphicFramePr>
          <p:cNvPr id="55" name=""/>
          <p:cNvGraphicFramePr/>
          <p:nvPr/>
        </p:nvGraphicFramePr>
        <p:xfrm>
          <a:off x="6324480" y="1143000"/>
          <a:ext cx="2500560" cy="2527200"/>
        </p:xfrm>
        <a:graphic>
          <a:graphicData uri="http://schemas.openxmlformats.org/drawingml/2006/table">
            <a:tbl>
              <a:tblPr/>
              <a:tblGrid>
                <a:gridCol w="2500560"/>
              </a:tblGrid>
              <a:tr h="13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76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r h="115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ption: Ten shillings coin: Shilling expected to gain further against the dollar towards the</a:t>
                      </a:r>
                      <a:r>
                        <a:rPr b="1" lang="en-US" sz="800" spc="-1" strike="noStrike">
                          <a:solidFill>
                            <a:srgbClr val="000000"/>
                          </a:solidFill>
                          <a:latin typeface="Arial"/>
                          <a:ea typeface="Arial"/>
                        </a:rPr>
                        <a:t> </a:t>
                      </a:r>
                      <a:r>
                        <a:rPr b="1" lang="en-US" sz="1400" spc="-1" strike="noStrike">
                          <a:solidFill>
                            <a:srgbClr val="000000"/>
                          </a:solidFill>
                          <a:latin typeface="Arial"/>
                          <a:ea typeface="Arial"/>
                        </a:rPr>
                        <a:t>end of the year</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 descr=""/>
          <p:cNvPicPr/>
          <p:nvPr/>
        </p:nvPicPr>
        <p:blipFill>
          <a:blip r:embed="rId4"/>
          <a:stretch/>
        </p:blipFill>
        <p:spPr>
          <a:xfrm>
            <a:off x="6553080" y="1295280"/>
            <a:ext cx="1200240" cy="1209960"/>
          </a:xfrm>
          <a:prstGeom prst="rect">
            <a:avLst/>
          </a:prstGeom>
          <a:ln w="0">
            <a:noFill/>
          </a:ln>
        </p:spPr>
      </p:pic>
      <p:pic>
        <p:nvPicPr>
          <p:cNvPr id="57" name="" descr="20 shilling (1994), portrait of Daniel arap Moi">
            <a:hlinkClick r:id="rId5"/>
          </p:cNvPr>
          <p:cNvPicPr/>
          <p:nvPr/>
        </p:nvPicPr>
        <p:blipFill>
          <a:blip r:embed="rId6"/>
          <a:stretch/>
        </p:blipFill>
        <p:spPr>
          <a:xfrm>
            <a:off x="5029200" y="4038480"/>
            <a:ext cx="2819520" cy="1543320"/>
          </a:xfrm>
          <a:prstGeom prst="rect">
            <a:avLst/>
          </a:prstGeom>
          <a:ln w="0">
            <a:noFill/>
          </a:ln>
        </p:spPr>
      </p:pic>
      <p:sp>
        <p:nvSpPr>
          <p:cNvPr id="58" name=""/>
          <p:cNvSpPr/>
          <p:nvPr/>
        </p:nvSpPr>
        <p:spPr>
          <a:xfrm>
            <a:off x="4724280" y="5560560"/>
            <a:ext cx="3733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shilling (1994), portrait of Daniel arap  M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Major Ev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rtuguese were the first Europeans to explore the region of current-day Kenya, Vasco da Gama visited Mombasa in 1498. </a:t>
            </a:r>
            <a:endParaRPr b="0" lang="en-US" sz="2800" spc="-1" strike="noStrike">
              <a:solidFill>
                <a:srgbClr val="000000"/>
              </a:solidFill>
              <a:latin typeface="Arial"/>
            </a:endParaRPr>
          </a:p>
        </p:txBody>
      </p:sp>
      <p:pic>
        <p:nvPicPr>
          <p:cNvPr id="61" name="" descr=""/>
          <p:cNvPicPr/>
          <p:nvPr/>
        </p:nvPicPr>
        <p:blipFill>
          <a:blip r:embed="rId1"/>
          <a:stretch/>
        </p:blipFill>
        <p:spPr>
          <a:xfrm>
            <a:off x="4648320" y="1600200"/>
            <a:ext cx="4038480" cy="4525920"/>
          </a:xfrm>
          <a:prstGeom prst="rect">
            <a:avLst/>
          </a:prstGeom>
          <a:ln w="0">
            <a:noFill/>
          </a:ln>
        </p:spPr>
      </p:pic>
      <p:pic>
        <p:nvPicPr>
          <p:cNvPr id="62" name="" descr="">
            <a:hlinkClick r:id="rId2"/>
          </p:cNvPr>
          <p:cNvPicPr/>
          <p:nvPr/>
        </p:nvPicPr>
        <p:blipFill>
          <a:blip r:embed="rId3"/>
          <a:stretch/>
        </p:blipFill>
        <p:spPr>
          <a:xfrm>
            <a:off x="5029200" y="1828800"/>
            <a:ext cx="316872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0000"/>
            </a:gs>
            <a:gs pos="100000">
              <a:srgbClr val="0099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Major Ev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uguese invades, slaughters and robs most cities on the East Coast of Africa. Dom Francisco de Almeida arrives with 23 ships and approximately 1500 soldiers. Mombasa is bombed and the occupied by Portuguese troops in 1505. </a:t>
            </a:r>
            <a:endParaRPr b="0" lang="en-US" sz="24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a:hlinkClick r:id="rId1"/>
          </p:cNvPr>
          <p:cNvPicPr/>
          <p:nvPr/>
        </p:nvPicPr>
        <p:blipFill>
          <a:blip r:embed="rId2"/>
          <a:stretch/>
        </p:blipFill>
        <p:spPr>
          <a:xfrm>
            <a:off x="4800600" y="1600200"/>
            <a:ext cx="3886200" cy="2631960"/>
          </a:xfrm>
          <a:prstGeom prst="rect">
            <a:avLst/>
          </a:prstGeom>
          <a:ln w="0">
            <a:noFill/>
          </a:ln>
        </p:spPr>
      </p:pic>
      <p:pic>
        <p:nvPicPr>
          <p:cNvPr id="67" name="" descr="http://www.gravesham.gov.uk/index.cfm?articleid=1853">
            <a:hlinkClick r:id="rId3"/>
          </p:cNvPr>
          <p:cNvPicPr/>
          <p:nvPr/>
        </p:nvPicPr>
        <p:blipFill>
          <a:blip r:embed="rId4"/>
          <a:stretch/>
        </p:blipFill>
        <p:spPr>
          <a:xfrm>
            <a:off x="4495680" y="4267080"/>
            <a:ext cx="411480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333399"/>
            </a:gs>
            <a:gs pos="100000">
              <a:srgbClr val="ff00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d Major Ev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ya was colonized by Arab traders from the 10th century and by the British in 1895.</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0" name="" descr=""/>
          <p:cNvPicPr/>
          <p:nvPr/>
        </p:nvPicPr>
        <p:blipFill>
          <a:blip r:embed="rId1"/>
          <a:stretch/>
        </p:blipFill>
        <p:spPr>
          <a:xfrm>
            <a:off x="4648320" y="1600200"/>
            <a:ext cx="4038480" cy="4525920"/>
          </a:xfrm>
          <a:prstGeom prst="rect">
            <a:avLst/>
          </a:prstGeom>
          <a:ln w="0">
            <a:noFill/>
          </a:ln>
        </p:spPr>
      </p:pic>
      <p:pic>
        <p:nvPicPr>
          <p:cNvPr id="71" name="" descr=""/>
          <p:cNvPicPr/>
          <p:nvPr/>
        </p:nvPicPr>
        <p:blipFill>
          <a:blip r:embed="rId2"/>
          <a:stretch/>
        </p:blipFill>
        <p:spPr>
          <a:xfrm>
            <a:off x="4572000" y="1600200"/>
            <a:ext cx="4191120" cy="3470400"/>
          </a:xfrm>
          <a:prstGeom prst="rect">
            <a:avLst/>
          </a:prstGeom>
          <a:ln w="0">
            <a:noFill/>
          </a:ln>
        </p:spPr>
      </p:pic>
      <p:pic>
        <p:nvPicPr>
          <p:cNvPr id="72" name="" descr="http://ipower.ning.com/group/britishpride">
            <a:hlinkClick r:id="rId3"/>
          </p:cNvPr>
          <p:cNvPicPr/>
          <p:nvPr/>
        </p:nvPicPr>
        <p:blipFill>
          <a:blip r:embed="rId4"/>
          <a:stretch/>
        </p:blipFill>
        <p:spPr>
          <a:xfrm>
            <a:off x="380880" y="3352680"/>
            <a:ext cx="4191120" cy="25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onomy Now</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a:t>
            </a:r>
            <a:endParaRPr b="0" lang="en-US" sz="28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robi</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hili, and English</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presidential rep.</a:t>
            </a:r>
            <a:endParaRPr b="0" lang="en-US" sz="2800" spc="-1" strike="noStrike">
              <a:solidFill>
                <a:srgbClr val="000000"/>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wai Kibaki </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7,953,840</a:t>
            </a:r>
            <a:endParaRPr b="0" lang="en-US" sz="25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84" name="" descr="http://commons.wikimedia.org/wiki/Image:Kenya_coat_of_arms.jpg">
            <a:hlinkClick r:id="rId1"/>
          </p:cNvPr>
          <p:cNvPicPr/>
          <p:nvPr/>
        </p:nvPicPr>
        <p:blipFill>
          <a:blip r:embed="rId2"/>
          <a:stretch/>
        </p:blipFill>
        <p:spPr>
          <a:xfrm>
            <a:off x="6019920" y="4019400"/>
            <a:ext cx="3124080" cy="2838600"/>
          </a:xfrm>
          <a:prstGeom prst="rect">
            <a:avLst/>
          </a:prstGeom>
          <a:ln w="0">
            <a:noFill/>
          </a:ln>
        </p:spPr>
      </p:pic>
      <p:pic>
        <p:nvPicPr>
          <p:cNvPr id="85" name="" descr="https://www.cia.gov/library/publications/the-world-factbook/flags/ke-flag.html">
            <a:hlinkClick r:id="rId3"/>
          </p:cNvPr>
          <p:cNvPicPr/>
          <p:nvPr/>
        </p:nvPicPr>
        <p:blipFill>
          <a:blip r:embed="rId4"/>
          <a:stretch/>
        </p:blipFill>
        <p:spPr>
          <a:xfrm>
            <a:off x="533520" y="4419720"/>
            <a:ext cx="3352680" cy="222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00"/>
            </a:gs>
            <a:gs pos="100000">
              <a:srgbClr val="ff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goog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ask.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yahoo.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Veteran's Day 2008">
            <a:hlinkClick r:id="rId5"/>
          </p:cNvPr>
          <p:cNvPicPr/>
          <p:nvPr/>
        </p:nvPicPr>
        <p:blipFill>
          <a:blip r:embed="rId6"/>
          <a:stretch/>
        </p:blipFill>
        <p:spPr>
          <a:xfrm>
            <a:off x="5181480" y="5181480"/>
            <a:ext cx="3353040" cy="1336680"/>
          </a:xfrm>
          <a:prstGeom prst="rect">
            <a:avLst/>
          </a:prstGeom>
          <a:ln w="0">
            <a:noFill/>
          </a:ln>
        </p:spPr>
      </p:pic>
      <p:pic>
        <p:nvPicPr>
          <p:cNvPr id="89" name="" descr="">
            <a:hlinkClick r:id="rId7"/>
          </p:cNvPr>
          <p:cNvPicPr/>
          <p:nvPr/>
        </p:nvPicPr>
        <p:blipFill>
          <a:blip r:embed="rId8"/>
          <a:stretch/>
        </p:blipFill>
        <p:spPr>
          <a:xfrm>
            <a:off x="6248520" y="3200400"/>
            <a:ext cx="2286000" cy="1695600"/>
          </a:xfrm>
          <a:prstGeom prst="rect">
            <a:avLst/>
          </a:prstGeom>
          <a:ln w="0">
            <a:noFill/>
          </a:ln>
        </p:spPr>
      </p:pic>
      <p:pic>
        <p:nvPicPr>
          <p:cNvPr id="90" name="" descr="">
            <a:hlinkClick r:id="rId9"/>
          </p:cNvPr>
          <p:cNvPicPr/>
          <p:nvPr/>
        </p:nvPicPr>
        <p:blipFill>
          <a:blip r:embed="rId10"/>
          <a:stretch/>
        </p:blipFill>
        <p:spPr>
          <a:xfrm>
            <a:off x="2743200" y="4419720"/>
            <a:ext cx="2133720" cy="2049480"/>
          </a:xfrm>
          <a:prstGeom prst="rect">
            <a:avLst/>
          </a:prstGeom>
          <a:ln w="0">
            <a:noFill/>
          </a:ln>
        </p:spPr>
      </p:pic>
      <p:pic>
        <p:nvPicPr>
          <p:cNvPr id="91" name="" descr=""/>
          <p:cNvPicPr/>
          <p:nvPr/>
        </p:nvPicPr>
        <p:blipFill>
          <a:blip r:embed="rId11"/>
          <a:stretch/>
        </p:blipFill>
        <p:spPr>
          <a:xfrm>
            <a:off x="533520" y="4724280"/>
            <a:ext cx="2057400" cy="18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5:20:41Z</dcterms:created>
  <dc:creator>LCS_user</dc:creator>
  <dc:description/>
  <dc:language>en-US</dc:language>
  <cp:lastModifiedBy>Linda Peacock</cp:lastModifiedBy>
  <dcterms:modified xsi:type="dcterms:W3CDTF">2008-11-12T02:26:21Z</dcterms:modified>
  <cp:revision>10</cp:revision>
  <dc:subject/>
  <dc:title>Kenya</dc:title>
</cp:coreProperties>
</file>